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0894-8B62-4A89-9ACB-4AA33121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C192-ADDB-432A-BE6D-0128F9F9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A610-3E4E-4DBA-8A1D-0344FEB5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F91A-6E6D-48B7-946B-49C77565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000-5FCD-40E9-9C14-68BF05F6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E60-3D7C-45AD-B08A-DDF0CA4C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CFCE-F825-495A-83A1-47098E34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82B8-DE21-4904-BA80-0C7F172B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1C07-5A4A-4C3A-8DEC-A1F6FA66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E9F-73F8-46FB-8C53-5F52AC29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0A2A-DEC0-4708-9289-6F951F76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9FE8-632F-43F8-A0EA-C6F7AC6C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70B1-0116-49A2-BCAA-5139A0B47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616200" y="404496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479840" y="368460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0" y="0"/>
            <a:ext cx="57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义务教育课程标准实验教科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141600" y="4941720"/>
            <a:ext cx="12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26"/>
                </a:solidFill>
                <a:latin typeface="黑体"/>
                <a:ea typeface="黑体"/>
              </a:rPr>
              <a:t>（一年级 上册</a:t>
            </a:r>
            <a:r>
              <a:rPr b="1" lang="en-US" sz="2800" spc="-1" strike="noStrike">
                <a:solidFill>
                  <a:srgbClr val="26262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4103640" y="371628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黑体"/>
                <a:ea typeface="楷体_GB2312"/>
              </a:rPr>
              <a:t>冀教版小学</a:t>
            </a:r>
            <a:r>
              <a:rPr b="1" lang="zh-CN" sz="5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语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1763640" y="1628640"/>
            <a:ext cx="56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地球妈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692316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地球妈妈真好，她让每一个孩子都有一个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小小的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116000" y="378936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想一想：“小小的家”指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116000" y="836640"/>
            <a:ext cx="692316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地球妈妈真好，她让每一个孩子都有一个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大大的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187280" y="3933720"/>
            <a:ext cx="71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想一想：“大大的家”指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256500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们应该为地球妈妈做些什么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755640" y="83664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想一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3571920" y="2519280"/>
            <a:ext cx="100656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763640" y="692280"/>
            <a:ext cx="5545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球村的主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住地球村，当好小主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上草，草儿青嫩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栽上树，树木绿莹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爱地球村的花草树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是地球村的好主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50920" y="47628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楷体_GB2312"/>
              </a:rPr>
              <a:t>我是小作家，我要写一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95280" y="1188360"/>
            <a:ext cx="8424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522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半空中的树杈上，还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池塘里的荷叶下面，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底下的泥洞里，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上的小房子里，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ff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冰冷的南极大陆，有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的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ff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深深的海洋里，有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               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的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2280">
              <a:lnSpc>
                <a:spcPct val="100000"/>
              </a:lnSpc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    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ShockwaveFlash1"/>
          <p:cNvGraphicFramePr/>
          <p:nvPr/>
        </p:nvGraphicFramePr>
        <p:xfrm>
          <a:off x="1258920" y="692280"/>
          <a:ext cx="3168720" cy="27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692280"/>
                    <a:ext cx="3168720" cy="2736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8" name="ShockwaveFlash2"/>
          <p:cNvGraphicFramePr/>
          <p:nvPr/>
        </p:nvGraphicFramePr>
        <p:xfrm>
          <a:off x="1258920" y="3573360"/>
          <a:ext cx="3168720" cy="273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ShockwaveFlash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3573360"/>
                    <a:ext cx="3168720" cy="2737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0" name="ShockwaveFlash3"/>
          <p:cNvGraphicFramePr/>
          <p:nvPr/>
        </p:nvGraphicFramePr>
        <p:xfrm>
          <a:off x="5076720" y="692280"/>
          <a:ext cx="3168720" cy="27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ShockwaveFlash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692280"/>
                    <a:ext cx="3168720" cy="2736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2" name="ShockwaveFlash4"/>
          <p:cNvGraphicFramePr/>
          <p:nvPr/>
        </p:nvGraphicFramePr>
        <p:xfrm>
          <a:off x="5076720" y="3573360"/>
          <a:ext cx="3168720" cy="273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" name="ShockwaveFlash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76720" y="3573360"/>
                    <a:ext cx="3168720" cy="2737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1835280" y="206064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再 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1403280" y="1916280"/>
            <a:ext cx="5905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前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地球是谁的妈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31640" y="40428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我会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71640" y="1758600"/>
            <a:ext cx="7056360" cy="38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地球   真好   她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让开   半空   松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小虾   兔子   小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763640" y="162864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dì  qiú         zhēn hǎo          tā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1619280" y="285264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ràng kāi         bàn kōng      sōng sh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1692360" y="414972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xiǎo xiā            tù  zi            xiǎo gǒ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250920" y="1700280"/>
            <a:ext cx="1224000" cy="2663640"/>
            <a:chOff x="250920" y="1700280"/>
            <a:chExt cx="1224000" cy="2663640"/>
          </a:xfrm>
        </p:grpSpPr>
        <p:grpSp>
          <p:nvGrpSpPr>
            <p:cNvPr id="54" name="Group 3"/>
            <p:cNvGrpSpPr/>
            <p:nvPr/>
          </p:nvGrpSpPr>
          <p:grpSpPr>
            <a:xfrm>
              <a:off x="250920" y="1700280"/>
              <a:ext cx="1224000" cy="2663640"/>
              <a:chOff x="250920" y="1700280"/>
              <a:chExt cx="1224000" cy="2663640"/>
            </a:xfrm>
          </p:grpSpPr>
          <p:sp>
            <p:nvSpPr>
              <p:cNvPr id="55" name="Oval 4"/>
              <p:cNvSpPr/>
              <p:nvPr/>
            </p:nvSpPr>
            <p:spPr>
              <a:xfrm>
                <a:off x="250920" y="1700280"/>
                <a:ext cx="1224000" cy="1457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"/>
              <p:cNvSpPr/>
              <p:nvPr/>
            </p:nvSpPr>
            <p:spPr>
              <a:xfrm>
                <a:off x="511200" y="3157560"/>
                <a:ext cx="408240" cy="1206360"/>
              </a:xfrm>
              <a:custGeom>
                <a:avLst/>
                <a:gdLst>
                  <a:gd name="textAreaLeft" fmla="*/ 0 w 408240"/>
                  <a:gd name="textAreaRight" fmla="*/ 408600 w 408240"/>
                  <a:gd name="textAreaTop" fmla="*/ 0 h 1206360"/>
                  <a:gd name="textAreaBottom" fmla="*/ 1206720 h 1206360"/>
                </a:gdLst>
                <a:ahLst/>
                <a:rect l="textAreaLeft" t="textAreaTop" r="textAreaRight" b="textAreaBottom"/>
                <a:pathLst>
                  <a:path w="301" h="1006">
                    <a:moveTo>
                      <a:pt x="301" y="0"/>
                    </a:moveTo>
                    <a:cubicBezTo>
                      <a:pt x="265" y="24"/>
                      <a:pt x="275" y="36"/>
                      <a:pt x="246" y="64"/>
                    </a:cubicBezTo>
                    <a:cubicBezTo>
                      <a:pt x="227" y="124"/>
                      <a:pt x="219" y="185"/>
                      <a:pt x="210" y="247"/>
                    </a:cubicBezTo>
                    <a:cubicBezTo>
                      <a:pt x="206" y="421"/>
                      <a:pt x="213" y="625"/>
                      <a:pt x="182" y="805"/>
                    </a:cubicBezTo>
                    <a:cubicBezTo>
                      <a:pt x="170" y="878"/>
                      <a:pt x="104" y="938"/>
                      <a:pt x="54" y="988"/>
                    </a:cubicBezTo>
                    <a:cubicBezTo>
                      <a:pt x="41" y="1001"/>
                      <a:pt x="0" y="1006"/>
                      <a:pt x="0" y="100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Text Box 6"/>
            <p:cNvSpPr/>
            <p:nvPr/>
          </p:nvSpPr>
          <p:spPr>
            <a:xfrm>
              <a:off x="466920" y="1987200"/>
              <a:ext cx="71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7"/>
          <p:cNvGrpSpPr/>
          <p:nvPr/>
        </p:nvGrpSpPr>
        <p:grpSpPr>
          <a:xfrm>
            <a:off x="3059280" y="3284640"/>
            <a:ext cx="1223640" cy="2663640"/>
            <a:chOff x="3059280" y="3284640"/>
            <a:chExt cx="1223640" cy="2663640"/>
          </a:xfrm>
        </p:grpSpPr>
        <p:grpSp>
          <p:nvGrpSpPr>
            <p:cNvPr id="59" name="Group 8"/>
            <p:cNvGrpSpPr/>
            <p:nvPr/>
          </p:nvGrpSpPr>
          <p:grpSpPr>
            <a:xfrm>
              <a:off x="3059280" y="3284640"/>
              <a:ext cx="1223640" cy="2663640"/>
              <a:chOff x="3059280" y="3284640"/>
              <a:chExt cx="1223640" cy="2663640"/>
            </a:xfrm>
          </p:grpSpPr>
          <p:sp>
            <p:nvSpPr>
              <p:cNvPr id="60" name="Oval 9"/>
              <p:cNvSpPr/>
              <p:nvPr/>
            </p:nvSpPr>
            <p:spPr>
              <a:xfrm>
                <a:off x="3059280" y="3284640"/>
                <a:ext cx="1223640" cy="145728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0"/>
              <p:cNvSpPr/>
              <p:nvPr/>
            </p:nvSpPr>
            <p:spPr>
              <a:xfrm>
                <a:off x="3319200" y="4741920"/>
                <a:ext cx="407520" cy="1206360"/>
              </a:xfrm>
              <a:custGeom>
                <a:avLst/>
                <a:gdLst>
                  <a:gd name="textAreaLeft" fmla="*/ 0 w 407520"/>
                  <a:gd name="textAreaRight" fmla="*/ 407880 w 407520"/>
                  <a:gd name="textAreaTop" fmla="*/ 0 h 1206360"/>
                  <a:gd name="textAreaBottom" fmla="*/ 1206720 h 1206360"/>
                </a:gdLst>
                <a:ahLst/>
                <a:rect l="textAreaLeft" t="textAreaTop" r="textAreaRight" b="textAreaBottom"/>
                <a:pathLst>
                  <a:path w="301" h="1006">
                    <a:moveTo>
                      <a:pt x="301" y="0"/>
                    </a:moveTo>
                    <a:cubicBezTo>
                      <a:pt x="265" y="24"/>
                      <a:pt x="275" y="36"/>
                      <a:pt x="246" y="64"/>
                    </a:cubicBezTo>
                    <a:cubicBezTo>
                      <a:pt x="227" y="124"/>
                      <a:pt x="219" y="185"/>
                      <a:pt x="210" y="247"/>
                    </a:cubicBezTo>
                    <a:cubicBezTo>
                      <a:pt x="206" y="421"/>
                      <a:pt x="213" y="625"/>
                      <a:pt x="182" y="805"/>
                    </a:cubicBezTo>
                    <a:cubicBezTo>
                      <a:pt x="170" y="878"/>
                      <a:pt x="104" y="938"/>
                      <a:pt x="54" y="988"/>
                    </a:cubicBezTo>
                    <a:cubicBezTo>
                      <a:pt x="41" y="1001"/>
                      <a:pt x="0" y="1006"/>
                      <a:pt x="0" y="100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Text Box 11"/>
            <p:cNvSpPr/>
            <p:nvPr/>
          </p:nvSpPr>
          <p:spPr>
            <a:xfrm>
              <a:off x="3346200" y="3645000"/>
              <a:ext cx="64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2"/>
          <p:cNvGrpSpPr/>
          <p:nvPr/>
        </p:nvGrpSpPr>
        <p:grpSpPr>
          <a:xfrm>
            <a:off x="4643280" y="3429000"/>
            <a:ext cx="1368720" cy="2663280"/>
            <a:chOff x="4643280" y="3429000"/>
            <a:chExt cx="1368720" cy="2663280"/>
          </a:xfrm>
        </p:grpSpPr>
        <p:grpSp>
          <p:nvGrpSpPr>
            <p:cNvPr id="64" name="Group 13"/>
            <p:cNvGrpSpPr/>
            <p:nvPr/>
          </p:nvGrpSpPr>
          <p:grpSpPr>
            <a:xfrm>
              <a:off x="4643280" y="3429000"/>
              <a:ext cx="1368720" cy="2663280"/>
              <a:chOff x="4643280" y="3429000"/>
              <a:chExt cx="1368720" cy="2663280"/>
            </a:xfrm>
          </p:grpSpPr>
          <p:sp>
            <p:nvSpPr>
              <p:cNvPr id="65" name="Oval 14"/>
              <p:cNvSpPr/>
              <p:nvPr/>
            </p:nvSpPr>
            <p:spPr>
              <a:xfrm>
                <a:off x="4643280" y="3429000"/>
                <a:ext cx="1368720" cy="145692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5"/>
              <p:cNvSpPr/>
              <p:nvPr/>
            </p:nvSpPr>
            <p:spPr>
              <a:xfrm>
                <a:off x="4951440" y="4885920"/>
                <a:ext cx="457200" cy="12063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206360"/>
                  <a:gd name="textAreaBottom" fmla="*/ 1206720 h 1206360"/>
                </a:gdLst>
                <a:ahLst/>
                <a:rect l="textAreaLeft" t="textAreaTop" r="textAreaRight" b="textAreaBottom"/>
                <a:pathLst>
                  <a:path w="301" h="1006">
                    <a:moveTo>
                      <a:pt x="301" y="0"/>
                    </a:moveTo>
                    <a:cubicBezTo>
                      <a:pt x="265" y="24"/>
                      <a:pt x="275" y="36"/>
                      <a:pt x="246" y="64"/>
                    </a:cubicBezTo>
                    <a:cubicBezTo>
                      <a:pt x="227" y="124"/>
                      <a:pt x="219" y="185"/>
                      <a:pt x="210" y="247"/>
                    </a:cubicBezTo>
                    <a:cubicBezTo>
                      <a:pt x="206" y="421"/>
                      <a:pt x="213" y="625"/>
                      <a:pt x="182" y="805"/>
                    </a:cubicBezTo>
                    <a:cubicBezTo>
                      <a:pt x="170" y="878"/>
                      <a:pt x="104" y="938"/>
                      <a:pt x="54" y="988"/>
                    </a:cubicBezTo>
                    <a:cubicBezTo>
                      <a:pt x="41" y="1001"/>
                      <a:pt x="0" y="1006"/>
                      <a:pt x="0" y="100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 Box 16"/>
            <p:cNvSpPr/>
            <p:nvPr/>
          </p:nvSpPr>
          <p:spPr>
            <a:xfrm>
              <a:off x="4932360" y="3860640"/>
              <a:ext cx="71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7"/>
          <p:cNvGrpSpPr/>
          <p:nvPr/>
        </p:nvGrpSpPr>
        <p:grpSpPr>
          <a:xfrm>
            <a:off x="6012000" y="1700280"/>
            <a:ext cx="1222200" cy="2698200"/>
            <a:chOff x="6012000" y="1700280"/>
            <a:chExt cx="1222200" cy="2698200"/>
          </a:xfrm>
        </p:grpSpPr>
        <p:grpSp>
          <p:nvGrpSpPr>
            <p:cNvPr id="69" name="Group 18"/>
            <p:cNvGrpSpPr/>
            <p:nvPr/>
          </p:nvGrpSpPr>
          <p:grpSpPr>
            <a:xfrm>
              <a:off x="6012000" y="1700280"/>
              <a:ext cx="1222200" cy="2698200"/>
              <a:chOff x="6012000" y="1700280"/>
              <a:chExt cx="1222200" cy="2698200"/>
            </a:xfrm>
          </p:grpSpPr>
          <p:sp>
            <p:nvSpPr>
              <p:cNvPr id="70" name="Oval 19"/>
              <p:cNvSpPr/>
              <p:nvPr/>
            </p:nvSpPr>
            <p:spPr>
              <a:xfrm>
                <a:off x="6012000" y="1700280"/>
                <a:ext cx="1222200" cy="14950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0"/>
              <p:cNvSpPr/>
              <p:nvPr/>
            </p:nvSpPr>
            <p:spPr>
              <a:xfrm>
                <a:off x="6271560" y="3160440"/>
                <a:ext cx="407520" cy="1238040"/>
              </a:xfrm>
              <a:custGeom>
                <a:avLst/>
                <a:gdLst>
                  <a:gd name="textAreaLeft" fmla="*/ 0 w 407520"/>
                  <a:gd name="textAreaRight" fmla="*/ 407880 w 407520"/>
                  <a:gd name="textAreaTop" fmla="*/ 0 h 1238040"/>
                  <a:gd name="textAreaBottom" fmla="*/ 1238400 h 1238040"/>
                </a:gdLst>
                <a:ahLst/>
                <a:rect l="textAreaLeft" t="textAreaTop" r="textAreaRight" b="textAreaBottom"/>
                <a:pathLst>
                  <a:path w="301" h="1006">
                    <a:moveTo>
                      <a:pt x="301" y="0"/>
                    </a:moveTo>
                    <a:cubicBezTo>
                      <a:pt x="265" y="24"/>
                      <a:pt x="275" y="36"/>
                      <a:pt x="246" y="64"/>
                    </a:cubicBezTo>
                    <a:cubicBezTo>
                      <a:pt x="227" y="124"/>
                      <a:pt x="219" y="185"/>
                      <a:pt x="210" y="247"/>
                    </a:cubicBezTo>
                    <a:cubicBezTo>
                      <a:pt x="206" y="421"/>
                      <a:pt x="213" y="625"/>
                      <a:pt x="182" y="805"/>
                    </a:cubicBezTo>
                    <a:cubicBezTo>
                      <a:pt x="170" y="878"/>
                      <a:pt x="104" y="938"/>
                      <a:pt x="54" y="988"/>
                    </a:cubicBezTo>
                    <a:cubicBezTo>
                      <a:pt x="41" y="1001"/>
                      <a:pt x="0" y="1006"/>
                      <a:pt x="0" y="100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Text Box 21"/>
            <p:cNvSpPr/>
            <p:nvPr/>
          </p:nvSpPr>
          <p:spPr>
            <a:xfrm>
              <a:off x="6300720" y="2224080"/>
              <a:ext cx="64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2"/>
          <p:cNvGrpSpPr/>
          <p:nvPr/>
        </p:nvGrpSpPr>
        <p:grpSpPr>
          <a:xfrm>
            <a:off x="7236000" y="2909880"/>
            <a:ext cx="1222200" cy="2690640"/>
            <a:chOff x="7236000" y="2909880"/>
            <a:chExt cx="1222200" cy="2690640"/>
          </a:xfrm>
        </p:grpSpPr>
        <p:sp>
          <p:nvSpPr>
            <p:cNvPr id="74" name="Oval 23"/>
            <p:cNvSpPr/>
            <p:nvPr/>
          </p:nvSpPr>
          <p:spPr>
            <a:xfrm>
              <a:off x="7236000" y="2909880"/>
              <a:ext cx="1222200" cy="14857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4"/>
            <p:cNvSpPr/>
            <p:nvPr/>
          </p:nvSpPr>
          <p:spPr>
            <a:xfrm>
              <a:off x="7496280" y="4368600"/>
              <a:ext cx="406440" cy="12319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1231920"/>
                <a:gd name="textAreaBottom" fmla="*/ 1232280 h 1231920"/>
              </a:gdLst>
              <a:ahLst/>
              <a:rect l="textAreaLeft" t="textAreaTop" r="textAreaRight" b="textAreaBottom"/>
              <a:pathLst>
                <a:path w="301" h="1006">
                  <a:moveTo>
                    <a:pt x="301" y="0"/>
                  </a:moveTo>
                  <a:cubicBezTo>
                    <a:pt x="265" y="24"/>
                    <a:pt x="275" y="36"/>
                    <a:pt x="246" y="64"/>
                  </a:cubicBezTo>
                  <a:cubicBezTo>
                    <a:pt x="227" y="124"/>
                    <a:pt x="219" y="185"/>
                    <a:pt x="210" y="247"/>
                  </a:cubicBezTo>
                  <a:cubicBezTo>
                    <a:pt x="206" y="421"/>
                    <a:pt x="213" y="625"/>
                    <a:pt x="182" y="805"/>
                  </a:cubicBezTo>
                  <a:cubicBezTo>
                    <a:pt x="170" y="878"/>
                    <a:pt x="104" y="938"/>
                    <a:pt x="54" y="988"/>
                  </a:cubicBezTo>
                  <a:cubicBezTo>
                    <a:pt x="41" y="1001"/>
                    <a:pt x="0" y="1006"/>
                    <a:pt x="0" y="100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5"/>
            <p:cNvSpPr/>
            <p:nvPr/>
          </p:nvSpPr>
          <p:spPr>
            <a:xfrm>
              <a:off x="7524720" y="327816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26"/>
          <p:cNvGrpSpPr/>
          <p:nvPr/>
        </p:nvGrpSpPr>
        <p:grpSpPr>
          <a:xfrm>
            <a:off x="1763640" y="2708280"/>
            <a:ext cx="1079280" cy="3008160"/>
            <a:chOff x="1763640" y="2708280"/>
            <a:chExt cx="1079280" cy="3008160"/>
          </a:xfrm>
        </p:grpSpPr>
        <p:sp>
          <p:nvSpPr>
            <p:cNvPr id="78" name="Oval 27"/>
            <p:cNvSpPr/>
            <p:nvPr/>
          </p:nvSpPr>
          <p:spPr>
            <a:xfrm>
              <a:off x="1763640" y="2708280"/>
              <a:ext cx="1079280" cy="1514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8"/>
            <p:cNvSpPr/>
            <p:nvPr/>
          </p:nvSpPr>
          <p:spPr>
            <a:xfrm>
              <a:off x="1995480" y="4208400"/>
              <a:ext cx="365040" cy="150804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1508040"/>
                <a:gd name="textAreaBottom" fmla="*/ 1508400 h 1508040"/>
              </a:gdLst>
              <a:ahLst/>
              <a:rect l="textAreaLeft" t="textAreaTop" r="textAreaRight" b="textAreaBottom"/>
              <a:pathLst>
                <a:path w="230" h="949">
                  <a:moveTo>
                    <a:pt x="169" y="0"/>
                  </a:moveTo>
                  <a:cubicBezTo>
                    <a:pt x="121" y="17"/>
                    <a:pt x="148" y="3"/>
                    <a:pt x="95" y="55"/>
                  </a:cubicBezTo>
                  <a:cubicBezTo>
                    <a:pt x="79" y="70"/>
                    <a:pt x="59" y="110"/>
                    <a:pt x="59" y="110"/>
                  </a:cubicBezTo>
                  <a:cubicBezTo>
                    <a:pt x="0" y="294"/>
                    <a:pt x="97" y="322"/>
                    <a:pt x="141" y="458"/>
                  </a:cubicBezTo>
                  <a:cubicBezTo>
                    <a:pt x="152" y="949"/>
                    <a:pt x="230" y="762"/>
                    <a:pt x="59" y="9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9"/>
            <p:cNvSpPr/>
            <p:nvPr/>
          </p:nvSpPr>
          <p:spPr>
            <a:xfrm>
              <a:off x="1979280" y="3143160"/>
              <a:ext cx="5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0"/>
          <p:cNvGrpSpPr/>
          <p:nvPr/>
        </p:nvGrpSpPr>
        <p:grpSpPr>
          <a:xfrm>
            <a:off x="3851280" y="1916280"/>
            <a:ext cx="1222200" cy="2698200"/>
            <a:chOff x="3851280" y="1916280"/>
            <a:chExt cx="1222200" cy="2698200"/>
          </a:xfrm>
        </p:grpSpPr>
        <p:grpSp>
          <p:nvGrpSpPr>
            <p:cNvPr id="82" name="Group 31"/>
            <p:cNvGrpSpPr/>
            <p:nvPr/>
          </p:nvGrpSpPr>
          <p:grpSpPr>
            <a:xfrm>
              <a:off x="3851280" y="1916280"/>
              <a:ext cx="1222200" cy="2698200"/>
              <a:chOff x="3851280" y="1916280"/>
              <a:chExt cx="1222200" cy="2698200"/>
            </a:xfrm>
          </p:grpSpPr>
          <p:sp>
            <p:nvSpPr>
              <p:cNvPr id="83" name="Oval 32"/>
              <p:cNvSpPr/>
              <p:nvPr/>
            </p:nvSpPr>
            <p:spPr>
              <a:xfrm>
                <a:off x="3851280" y="1916280"/>
                <a:ext cx="1222200" cy="1495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33"/>
              <p:cNvSpPr/>
              <p:nvPr/>
            </p:nvSpPr>
            <p:spPr>
              <a:xfrm>
                <a:off x="4110840" y="3376440"/>
                <a:ext cx="407520" cy="1238040"/>
              </a:xfrm>
              <a:custGeom>
                <a:avLst/>
                <a:gdLst>
                  <a:gd name="textAreaLeft" fmla="*/ 0 w 407520"/>
                  <a:gd name="textAreaRight" fmla="*/ 407880 w 407520"/>
                  <a:gd name="textAreaTop" fmla="*/ 0 h 1238040"/>
                  <a:gd name="textAreaBottom" fmla="*/ 1238400 h 1238040"/>
                </a:gdLst>
                <a:ahLst/>
                <a:rect l="textAreaLeft" t="textAreaTop" r="textAreaRight" b="textAreaBottom"/>
                <a:pathLst>
                  <a:path w="301" h="1006">
                    <a:moveTo>
                      <a:pt x="301" y="0"/>
                    </a:moveTo>
                    <a:cubicBezTo>
                      <a:pt x="265" y="24"/>
                      <a:pt x="275" y="36"/>
                      <a:pt x="246" y="64"/>
                    </a:cubicBezTo>
                    <a:cubicBezTo>
                      <a:pt x="227" y="124"/>
                      <a:pt x="219" y="185"/>
                      <a:pt x="210" y="247"/>
                    </a:cubicBezTo>
                    <a:cubicBezTo>
                      <a:pt x="206" y="421"/>
                      <a:pt x="213" y="625"/>
                      <a:pt x="182" y="805"/>
                    </a:cubicBezTo>
                    <a:cubicBezTo>
                      <a:pt x="170" y="878"/>
                      <a:pt x="104" y="938"/>
                      <a:pt x="54" y="988"/>
                    </a:cubicBezTo>
                    <a:cubicBezTo>
                      <a:pt x="41" y="1001"/>
                      <a:pt x="0" y="1006"/>
                      <a:pt x="0" y="100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Text Box 34"/>
            <p:cNvSpPr/>
            <p:nvPr/>
          </p:nvSpPr>
          <p:spPr>
            <a:xfrm>
              <a:off x="4140000" y="2440080"/>
              <a:ext cx="64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37"/>
          <p:cNvSpPr/>
          <p:nvPr/>
        </p:nvSpPr>
        <p:spPr>
          <a:xfrm>
            <a:off x="611280" y="404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我会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68360" y="1125360"/>
            <a:ext cx="8209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地球是谁的妈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它们的家在哪里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765000"/>
            <a:ext cx="457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边读边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4678200" y="565776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楷体_GB2312"/>
              </a:rPr>
              <a:t>半空中的树杈上，有小鸟和松鼠的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250920" y="537372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池塘里的荷叶下面，有小鱼和小虾的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1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547640" y="1268280"/>
            <a:ext cx="60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地底下的泥洞里，有鼹鼠和兔子的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tuzi"/>
          <p:cNvPicPr/>
          <p:nvPr/>
        </p:nvPicPr>
        <p:blipFill>
          <a:blip r:embed="rId1"/>
          <a:stretch/>
        </p:blipFill>
        <p:spPr>
          <a:xfrm>
            <a:off x="900000" y="3645000"/>
            <a:ext cx="2576520" cy="1933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yanshu"/>
          <p:cNvPicPr/>
          <p:nvPr/>
        </p:nvPicPr>
        <p:blipFill>
          <a:blip r:embed="rId2"/>
          <a:stretch/>
        </p:blipFill>
        <p:spPr>
          <a:xfrm>
            <a:off x="5753160" y="3500280"/>
            <a:ext cx="25225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xiaogou"/>
          <p:cNvPicPr/>
          <p:nvPr/>
        </p:nvPicPr>
        <p:blipFill>
          <a:blip r:embed="rId1"/>
          <a:stretch/>
        </p:blipFill>
        <p:spPr>
          <a:xfrm>
            <a:off x="5940360" y="2276640"/>
            <a:ext cx="2190960" cy="1809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611280" y="213372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地上的小房子里，有我和小狗的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08:23:48Z</dcterms:created>
  <dc:creator>黄泽意</dc:creator>
  <dc:description/>
  <dc:language>en-US</dc:language>
  <cp:lastModifiedBy>Administrator</cp:lastModifiedBy>
  <dcterms:modified xsi:type="dcterms:W3CDTF">2014-08-08T09:09:15Z</dcterms:modified>
  <cp:revision>44</cp:revision>
  <dc:subject/>
  <dc:title>7 地球妈妈</dc:title>
</cp:coreProperties>
</file>